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9AAE-61DB-4B15-A360-1253235097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219D-9731-4A22-BC57-C8CAAD75BC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B686-2AC6-4E49-994A-F5451E4E56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A539-29A6-4861-839B-42F41C12ED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01EB-3717-404A-91DB-4F7DE09435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C94D-2B54-45D8-91BE-9588F3BAFF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3992-C4B0-4DFB-9C99-325524A5D4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3EC4-ED7D-48CB-B707-43AEEBEDFD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AF4E-73E8-42E0-A576-040E96F750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B725-A05E-4E59-8C3F-9B6123618D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8CE9-8336-4935-9B55-67BAA2D163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AF34-4C66-4332-93E7-2FC10543E0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CDF7-FAAE-4EF1-BD4B-D30DD0E76C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80BB-B740-4B18-9033-788F2F6DD7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295-0A94-4397-A7ED-2536D4D3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EB4-C1D4-4F01-A45D-7B0DCE8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BD3-5056-4863-A36B-C04FFC17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22B-ED2D-4E89-B142-34BBA193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699-F053-48C6-9121-86FA9098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6E1-DDF0-4CDE-81C6-3744E105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5E2-8123-4609-99BA-75022689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BDF-46C6-4EB1-BAA1-740DC3DC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7CC-1884-4B27-9F1B-0707CD83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09B-629E-4704-82ED-7749A12F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239-9519-4EE3-969F-DD2ACD89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EA0-FCD3-4DC4-84EF-41F5E21B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nternal_bkgd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9200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15FE-6CAA-4AE5-8017-55053FC995C7}" type="datetime">
              <a:rPr b="0" lang="ja-JP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3836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2164-1358-416C-B70C-86B7DB55CD4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Internal_title_base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608040" y="623412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over_back_8"/>
          <p:cNvPicPr/>
          <p:nvPr/>
        </p:nvPicPr>
        <p:blipFill>
          <a:blip r:embed="rId3"/>
          <a:stretch/>
        </p:blipFill>
        <p:spPr>
          <a:xfrm>
            <a:off x="0" y="1978200"/>
            <a:ext cx="91440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923760" y="4572000"/>
            <a:ext cx="7294680" cy="590400"/>
            <a:chOff x="923760" y="4572000"/>
            <a:chExt cx="7294680" cy="590400"/>
          </a:xfrm>
        </p:grpSpPr>
        <p:pic>
          <p:nvPicPr>
            <p:cNvPr id="46" name="Picture 6" descr="icon_1"/>
            <p:cNvPicPr/>
            <p:nvPr/>
          </p:nvPicPr>
          <p:blipFill>
            <a:blip r:embed="rId4"/>
            <a:stretch/>
          </p:blipFill>
          <p:spPr>
            <a:xfrm>
              <a:off x="9237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icon_5"/>
            <p:cNvPicPr/>
            <p:nvPr/>
          </p:nvPicPr>
          <p:blipFill>
            <a:blip r:embed="rId5"/>
            <a:stretch/>
          </p:blipFill>
          <p:spPr>
            <a:xfrm>
              <a:off x="2597040" y="457200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8" descr="icon_2"/>
            <p:cNvPicPr/>
            <p:nvPr/>
          </p:nvPicPr>
          <p:blipFill>
            <a:blip r:embed="rId6"/>
            <a:stretch/>
          </p:blipFill>
          <p:spPr>
            <a:xfrm>
              <a:off x="7627680" y="4572000"/>
              <a:ext cx="5907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icon_3"/>
            <p:cNvPicPr/>
            <p:nvPr/>
          </p:nvPicPr>
          <p:blipFill>
            <a:blip r:embed="rId7"/>
            <a:stretch/>
          </p:blipFill>
          <p:spPr>
            <a:xfrm>
              <a:off x="427968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" descr="icon_4"/>
            <p:cNvPicPr/>
            <p:nvPr/>
          </p:nvPicPr>
          <p:blipFill>
            <a:blip r:embed="rId8"/>
            <a:stretch/>
          </p:blipFill>
          <p:spPr>
            <a:xfrm>
              <a:off x="59529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\\glbfs14\sw_releases\Wireless_Global_Tools\Tool_Release\SP_Drivers\InUse\UART\FTDI" TargetMode="External"/><Relationship Id="rId2" Type="http://schemas.openxmlformats.org/officeDocument/2006/relationships/hyperlink" Target="\\glbfs14\sw_releases\Wireless_Global_Tools\Tool_Release\SP_Drivers\InUse\UART\Prolifi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9600" y="27018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iver installation for SP BSP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724360" y="5621400"/>
            <a:ext cx="31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SimHei"/>
              </a:rPr>
              <a:t>MBJ_WCP2OSS5_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6CB9-5733-45D6-B1AF-9EBDD11E79E0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A1BC-8572-42EB-BB66-A4B69B4AF75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22440" y="1071720"/>
            <a:ext cx="8270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ninstall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plug devices which connect with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un Remove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bat.png"/>
          <p:cNvPicPr/>
          <p:nvPr/>
        </p:nvPicPr>
        <p:blipFill>
          <a:blip r:embed="rId1"/>
          <a:stretch/>
        </p:blipFill>
        <p:spPr>
          <a:xfrm>
            <a:off x="2000160" y="2643120"/>
            <a:ext cx="30574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EF8D-E46E-47F4-BB0B-0A32E25F4126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8F8F-C932-4951-B26B-0DBD3519BC0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2440" y="1071720"/>
            <a:ext cx="82706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A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標楷體"/>
              </a:rPr>
              <a:t>Install driver listed 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FTDI driver (For 2 in 1 c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標楷體"/>
                <a:hlinkClick r:id="rId1"/>
              </a:rPr>
              <a:t>\\glbfs14\sw_releases\Wireless_Global_Tools\Tool_Release\SP_Drivers\InUse\UART\FT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Prolific driver (For 3 in 1 c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標楷體"/>
                <a:hlinkClick r:id="rId2"/>
              </a:rPr>
              <a:t>\\glbfs14\sw_releases\Wireless_Global_Tools\Tool_Release\SP_Drivers\InUse\UART\Prol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1429-5429-4EAB-8053-7A6C6A370E5B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59C8-A8CE-4575-AFEC-F56EB99745D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Append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Details in installatio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Bootloader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BootROM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Preloader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DA HS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Kerne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ADB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ACM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NDIS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MTP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5"/>
          <p:cNvSpPr/>
          <p:nvPr/>
        </p:nvSpPr>
        <p:spPr>
          <a:xfrm>
            <a:off x="3203280" y="328284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Hei"/>
              </a:rPr>
              <a:t>www.mediate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AF99-EF35-4B8C-BC0C-04A1F92C988D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9653-73DD-4E36-A05E-DD2587C89DC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Re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28800" y="1214280"/>
          <a:ext cx="7572240" cy="2308320"/>
        </p:xfrm>
        <a:graphic>
          <a:graphicData uri="http://schemas.openxmlformats.org/drawingml/2006/table">
            <a:tbl>
              <a:tblPr/>
              <a:tblGrid>
                <a:gridCol w="1071360"/>
                <a:gridCol w="1285920"/>
                <a:gridCol w="52149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Content &amp; Mod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V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2012/06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Draft ver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V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2012/09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Use DPInst to install dr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Integrate signed and unsigned drivers into 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Integrate SP_Drivers_v1.5 (Kernel driv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61C6-894F-4177-A434-57EA1452820F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2885-2C67-40E9-9488-5EDB14A8388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Uninstall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ART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08E6-27B2-48ED-82F3-7A979270666E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F48F-3B36-4052-8C0F-E7773B4BA7D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To simplify procedure of driver installation when using SP BSP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Scope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SP Flash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Maui META tool / SP META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Key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ternal RD &amp; 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48F9-E4A6-47BB-B6B8-4BBC5ECCB6FD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5474-F87B-459B-86EF-83A161FBAC0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plug devices which connect with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Uncompress package of driver auto ins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un Install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bat.png"/>
          <p:cNvPicPr/>
          <p:nvPr/>
        </p:nvPicPr>
        <p:blipFill>
          <a:blip r:embed="rId1"/>
          <a:stretch/>
        </p:blipFill>
        <p:spPr>
          <a:xfrm>
            <a:off x="2000160" y="2928960"/>
            <a:ext cx="30574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52B5-F674-4E3A-A039-3A2200B21F46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C621-1979-46DE-A034-350A420FE72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If warning prompt shown about unsigned drivers installation, please confirm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rompt.PNG"/>
          <p:cNvPicPr/>
          <p:nvPr/>
        </p:nvPicPr>
        <p:blipFill>
          <a:blip r:embed="rId1"/>
          <a:stretch/>
        </p:blipFill>
        <p:spPr>
          <a:xfrm>
            <a:off x="4357800" y="2928960"/>
            <a:ext cx="4572000" cy="2959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install_sign.png"/>
          <p:cNvPicPr/>
          <p:nvPr/>
        </p:nvPicPr>
        <p:blipFill>
          <a:blip r:embed="rId2"/>
          <a:stretch/>
        </p:blipFill>
        <p:spPr>
          <a:xfrm>
            <a:off x="357120" y="2928960"/>
            <a:ext cx="3814920" cy="2955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2786040" y="5608800"/>
            <a:ext cx="714240" cy="2142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715000" y="5000760"/>
            <a:ext cx="3071880" cy="5713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150012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6000840" y="25002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D685-A9F8-43AE-9DF0-6E1B481BC19D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06D4-5768-4EB7-85DD-E25DB49F389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Wait a moment till prompt of installation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Complete.PNG"/>
          <p:cNvPicPr/>
          <p:nvPr/>
        </p:nvPicPr>
        <p:blipFill>
          <a:blip r:embed="rId1"/>
          <a:stretch/>
        </p:blipFill>
        <p:spPr>
          <a:xfrm>
            <a:off x="4429080" y="2928960"/>
            <a:ext cx="438804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install.png"/>
          <p:cNvPicPr/>
          <p:nvPr/>
        </p:nvPicPr>
        <p:blipFill>
          <a:blip r:embed="rId2"/>
          <a:stretch/>
        </p:blipFill>
        <p:spPr>
          <a:xfrm>
            <a:off x="357120" y="2928960"/>
            <a:ext cx="3786120" cy="2916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150012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6000840" y="25002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93CB-EA69-4FAE-8133-481A5EC3936D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C99-27B4-4B6E-AAA2-E90B8AD3075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Run tool and plug device into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For signed driver (Details in append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ONLY a small prompt may appear on system tray, OS will recognize it and make it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systray.PNG"/>
          <p:cNvPicPr/>
          <p:nvPr/>
        </p:nvPicPr>
        <p:blipFill>
          <a:blip r:embed="rId1"/>
          <a:stretch/>
        </p:blipFill>
        <p:spPr>
          <a:xfrm>
            <a:off x="4357800" y="3929040"/>
            <a:ext cx="3238560" cy="924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igned_pop.png"/>
          <p:cNvPicPr/>
          <p:nvPr/>
        </p:nvPicPr>
        <p:blipFill>
          <a:blip r:embed="rId2"/>
          <a:stretch/>
        </p:blipFill>
        <p:spPr>
          <a:xfrm>
            <a:off x="1857240" y="3929040"/>
            <a:ext cx="1543320" cy="8002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2071800" y="3429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5500800" y="3429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4E7D-A2C4-43B4-8125-ECBB2BEF323C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40B8-CD5A-4917-A37A-3767D21989F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For unsigned driver (Details in append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A small prompt may appear on system tray, be similar to signed driver, OS will search matched driver automatically (Win 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A dialog will be pop up to driver installation, user should click auto installation, if unsigned prompt shown, please confirm it (Win 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unsigned_pop.png"/>
          <p:cNvPicPr/>
          <p:nvPr/>
        </p:nvPicPr>
        <p:blipFill>
          <a:blip r:embed="rId1"/>
          <a:stretch/>
        </p:blipFill>
        <p:spPr>
          <a:xfrm>
            <a:off x="357120" y="3643200"/>
            <a:ext cx="2714760" cy="19782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1357200" y="4889520"/>
            <a:ext cx="85752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071800" y="5429160"/>
            <a:ext cx="50004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unsigned_pop2.png"/>
          <p:cNvPicPr/>
          <p:nvPr/>
        </p:nvPicPr>
        <p:blipFill>
          <a:blip r:embed="rId2"/>
          <a:stretch/>
        </p:blipFill>
        <p:spPr>
          <a:xfrm>
            <a:off x="3357720" y="3643200"/>
            <a:ext cx="2662200" cy="200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unsigned_pop3.png"/>
          <p:cNvPicPr/>
          <p:nvPr/>
        </p:nvPicPr>
        <p:blipFill>
          <a:blip r:embed="rId3"/>
          <a:stretch/>
        </p:blipFill>
        <p:spPr>
          <a:xfrm>
            <a:off x="6286680" y="3643200"/>
            <a:ext cx="2738160" cy="2000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2"/>
          <p:cNvSpPr/>
          <p:nvPr/>
        </p:nvSpPr>
        <p:spPr>
          <a:xfrm>
            <a:off x="4000680" y="3143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4071960" y="5472000"/>
            <a:ext cx="50004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8045280" y="5443560"/>
            <a:ext cx="50040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0:39:15Z</dcterms:created>
  <dc:creator>MTK</dc:creator>
  <dc:description/>
  <cp:keywords>Internal Use</cp:keywords>
  <dc:language>en-US</dc:language>
  <cp:lastModifiedBy>mediatek</cp:lastModifiedBy>
  <dcterms:modified xsi:type="dcterms:W3CDTF">2012-10-09T01:43:53Z</dcterms:modified>
  <cp:revision>1033</cp:revision>
  <dc:subject/>
  <dc:title>投影片 0</dc:title>
</cp:coreProperties>
</file>