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0050-9164-4823-B3E9-E00C4CBA8B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2EF7-CCF6-4C49-8832-0E6FFDB7E9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9834-8905-462B-9A8D-AB01D1D446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E102-17A6-4B45-B702-C8EB264B99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1977-A467-4713-87C0-758AD2A069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7D11-8BC3-46CD-8CB0-527FE404CD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6A97-4F26-4DB2-BBA2-6CFB8ABA30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FBB9-7C2B-4030-A8AF-EE9DB5F5D9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7FE2-525B-4FDB-A3DC-E8B4B09B60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3C78-4BEB-4B29-A864-4072BCEC45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623A-9660-4C1B-A2CB-E49986C289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B107-81C7-45BB-AE98-6CEA6673A3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36C0-4538-4347-AA90-4A68047AA4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36F4-7D05-43C2-AF17-5DFFD30575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aip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E20-84DB-4B76-869E-78C96157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CEB-84F3-4D9B-8C74-F9DF8FBE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373-1B5B-41DD-B2BE-4BEBE762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074-4C05-4DA0-8226-A2A91F5B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F73-B95B-4E02-A758-B4FCAB13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548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69240" y="150804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20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548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69240" y="3895200"/>
            <a:ext cx="259344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9B8-48FD-4F19-B098-C34D8A6A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36F-33DE-462F-A664-D25B0754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7EB-9A80-4761-8762-F4BB23A2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3760"/>
            <a:ext cx="805968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EC0-5F0A-46A1-A95E-1399CBE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835-1E4D-4D60-A4EC-E0089E36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9480" y="389520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309-7D5D-4184-A4D7-5CDFCD61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20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9480" y="1508040"/>
            <a:ext cx="39304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2080" y="3895200"/>
            <a:ext cx="80550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05C-3798-40E8-B66C-E662DA89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nternal_bkgd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9200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F42F-EFE0-4A58-BCE7-9D4635B3801D}" type="datetime">
              <a:rPr b="0" lang="ja-JP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3836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4172-7F86-4989-B7EC-23F96F378BB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Internal_title_base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608040" y="623412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over_back_8"/>
          <p:cNvPicPr/>
          <p:nvPr/>
        </p:nvPicPr>
        <p:blipFill>
          <a:blip r:embed="rId3"/>
          <a:stretch/>
        </p:blipFill>
        <p:spPr>
          <a:xfrm>
            <a:off x="0" y="1978200"/>
            <a:ext cx="91440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923760" y="4572000"/>
            <a:ext cx="7294680" cy="590400"/>
            <a:chOff x="923760" y="4572000"/>
            <a:chExt cx="7294680" cy="590400"/>
          </a:xfrm>
        </p:grpSpPr>
        <p:pic>
          <p:nvPicPr>
            <p:cNvPr id="46" name="Picture 6" descr="icon_1"/>
            <p:cNvPicPr/>
            <p:nvPr/>
          </p:nvPicPr>
          <p:blipFill>
            <a:blip r:embed="rId4"/>
            <a:stretch/>
          </p:blipFill>
          <p:spPr>
            <a:xfrm>
              <a:off x="9237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7" descr="icon_5"/>
            <p:cNvPicPr/>
            <p:nvPr/>
          </p:nvPicPr>
          <p:blipFill>
            <a:blip r:embed="rId5"/>
            <a:stretch/>
          </p:blipFill>
          <p:spPr>
            <a:xfrm>
              <a:off x="2597040" y="4572000"/>
              <a:ext cx="5904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8" descr="icon_2"/>
            <p:cNvPicPr/>
            <p:nvPr/>
          </p:nvPicPr>
          <p:blipFill>
            <a:blip r:embed="rId6"/>
            <a:stretch/>
          </p:blipFill>
          <p:spPr>
            <a:xfrm>
              <a:off x="7627680" y="4572000"/>
              <a:ext cx="5907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9" descr="icon_3"/>
            <p:cNvPicPr/>
            <p:nvPr/>
          </p:nvPicPr>
          <p:blipFill>
            <a:blip r:embed="rId7"/>
            <a:stretch/>
          </p:blipFill>
          <p:spPr>
            <a:xfrm>
              <a:off x="427968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0" descr="icon_4"/>
            <p:cNvPicPr/>
            <p:nvPr/>
          </p:nvPicPr>
          <p:blipFill>
            <a:blip r:embed="rId8"/>
            <a:stretch/>
          </p:blipFill>
          <p:spPr>
            <a:xfrm>
              <a:off x="5952960" y="4572000"/>
              <a:ext cx="58104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3760"/>
            <a:ext cx="805968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2080" y="1508040"/>
            <a:ext cx="80550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\\glbfs14\sw_releases\Wireless_Global_Tools\Tool_Release\SP_Drivers\InUse\UART\FTDI" TargetMode="External"/><Relationship Id="rId2" Type="http://schemas.openxmlformats.org/officeDocument/2006/relationships/hyperlink" Target="\\glbfs14\sw_releases\Wireless_Global_Tools\Tool_Release\SP_Drivers\InUse\UART\Prolifi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9600" y="2701800"/>
            <a:ext cx="8524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iver installation for SP BSP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724360" y="5621400"/>
            <a:ext cx="31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SimHei"/>
              </a:rPr>
              <a:t>MBJ_WCP2OSS5_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A9A2-3A62-42EA-B6CF-3016CC5FDF94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493E-93FE-42AF-AB27-231C6EC7890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22440" y="1071720"/>
            <a:ext cx="8270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ninstall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plug devices which connect with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un Remove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bat.png"/>
          <p:cNvPicPr/>
          <p:nvPr/>
        </p:nvPicPr>
        <p:blipFill>
          <a:blip r:embed="rId1"/>
          <a:stretch/>
        </p:blipFill>
        <p:spPr>
          <a:xfrm>
            <a:off x="2000160" y="2643120"/>
            <a:ext cx="30574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61CA-FE0B-4CBA-BB8E-9FDAFE089874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EAD9-AFD3-419C-BAC2-DED3E915894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2440" y="1071720"/>
            <a:ext cx="82706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A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標楷體"/>
              </a:rPr>
              <a:t>Install driver listed 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FTDI driver (For 2 in 1 c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標楷體"/>
                <a:hlinkClick r:id="rId1"/>
              </a:rPr>
              <a:t>\\glbfs14\sw_releases\Wireless_Global_Tools\Tool_Release\SP_Drivers\InUse\UART\FT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Prolific driver (For 3 in 1 c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標楷體"/>
                <a:hlinkClick r:id="rId2"/>
              </a:rPr>
              <a:t>\\glbfs14\sw_releases\Wireless_Global_Tools\Tool_Release\SP_Drivers\InUse\UART\Prol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E6B0-BB34-4E2A-9E53-8EA6DF4BC843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1AB4-3949-4225-9CDB-33CE1AE11C2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Append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Details in installatio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Bootloader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BootROM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Preloader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DA HS USB (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標楷體"/>
              </a:rPr>
              <a:t>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Kernel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ADB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ACM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NDIS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MTP (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sign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5"/>
          <p:cNvSpPr/>
          <p:nvPr/>
        </p:nvSpPr>
        <p:spPr>
          <a:xfrm>
            <a:off x="3203280" y="328284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Hei"/>
              </a:rPr>
              <a:t>www.mediate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B51A-AD6B-4EFF-BC6C-FC045D993918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C03B-6284-4E37-A3E7-B705813700F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Re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28800" y="1214280"/>
          <a:ext cx="7572240" cy="2308320"/>
        </p:xfrm>
        <a:graphic>
          <a:graphicData uri="http://schemas.openxmlformats.org/drawingml/2006/table">
            <a:tbl>
              <a:tblPr/>
              <a:tblGrid>
                <a:gridCol w="1071360"/>
                <a:gridCol w="1285920"/>
                <a:gridCol w="52149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SimHei"/>
                        </a:rPr>
                        <a:t>Content &amp; Mod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V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2012/06/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Draft ver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V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2012/09/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Use DPInst to install dri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Integrate signed and unsigned drivers into 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Hei"/>
                        </a:rPr>
                        <a:t>Integrate SP_Drivers_v1.5 (Kernel driv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D16D-8478-4E79-BEAC-B53D38951937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2128-48E6-42C5-AB54-8D07DD10A7B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Uninstall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UART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22A6-033E-44E2-A10F-DC1F1552D13B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0DF4-EE1F-4822-B41E-CAA9DB8EFFE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To simplify procedure of driver installation when using SP BSP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Scope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SP Flash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Maui META tool / SP META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Key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ternal RD &amp; Q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657A-4691-4C19-AF89-F137FC6F3D16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8690-4C3D-4B9B-BD47-D5A56C41FC4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Unplug devices which connect with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Uncompress package of driver auto ins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Run Install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bat.png"/>
          <p:cNvPicPr/>
          <p:nvPr/>
        </p:nvPicPr>
        <p:blipFill>
          <a:blip r:embed="rId1"/>
          <a:stretch/>
        </p:blipFill>
        <p:spPr>
          <a:xfrm>
            <a:off x="2000160" y="2928960"/>
            <a:ext cx="30574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F175-9B4B-4F0A-B27B-54580A8FE885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8117-6021-4A3D-8A5F-FFF2AE774CD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If warning prompt shown about unsigned drivers installation, please confirm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rompt.PNG"/>
          <p:cNvPicPr/>
          <p:nvPr/>
        </p:nvPicPr>
        <p:blipFill>
          <a:blip r:embed="rId1"/>
          <a:stretch/>
        </p:blipFill>
        <p:spPr>
          <a:xfrm>
            <a:off x="4357800" y="2928960"/>
            <a:ext cx="4572000" cy="2959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install_sign.png"/>
          <p:cNvPicPr/>
          <p:nvPr/>
        </p:nvPicPr>
        <p:blipFill>
          <a:blip r:embed="rId2"/>
          <a:stretch/>
        </p:blipFill>
        <p:spPr>
          <a:xfrm>
            <a:off x="357120" y="2928960"/>
            <a:ext cx="3814920" cy="2955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2786040" y="5608800"/>
            <a:ext cx="714240" cy="2142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715000" y="5000760"/>
            <a:ext cx="3071880" cy="5713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1500120" y="2500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6000840" y="25002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9AC1-9DF9-4206-94E1-1CB0603CF9C8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45CA-0D9C-4424-89A3-EE82E730D47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Wait a moment till prompt of installation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Complete.PNG"/>
          <p:cNvPicPr/>
          <p:nvPr/>
        </p:nvPicPr>
        <p:blipFill>
          <a:blip r:embed="rId1"/>
          <a:stretch/>
        </p:blipFill>
        <p:spPr>
          <a:xfrm>
            <a:off x="4429080" y="2928960"/>
            <a:ext cx="438804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install.png"/>
          <p:cNvPicPr/>
          <p:nvPr/>
        </p:nvPicPr>
        <p:blipFill>
          <a:blip r:embed="rId2"/>
          <a:stretch/>
        </p:blipFill>
        <p:spPr>
          <a:xfrm>
            <a:off x="357120" y="2928960"/>
            <a:ext cx="3786120" cy="2916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1500120" y="25002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6000840" y="25002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26A7-93C8-4BD5-AFDE-EB965CB8BE53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AE83-A637-4AA1-8163-5590E16A0C5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標楷體"/>
              </a:rPr>
              <a:t>Run tool and plug device into PC through USB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For signed driver (Details in append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ONLY a small prompt may appear on system tray, OS will recognize it and make it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systray.PNG"/>
          <p:cNvPicPr/>
          <p:nvPr/>
        </p:nvPicPr>
        <p:blipFill>
          <a:blip r:embed="rId1"/>
          <a:stretch/>
        </p:blipFill>
        <p:spPr>
          <a:xfrm>
            <a:off x="4357800" y="3929040"/>
            <a:ext cx="3238560" cy="924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igned_pop.png"/>
          <p:cNvPicPr/>
          <p:nvPr/>
        </p:nvPicPr>
        <p:blipFill>
          <a:blip r:embed="rId2"/>
          <a:stretch/>
        </p:blipFill>
        <p:spPr>
          <a:xfrm>
            <a:off x="1857240" y="3929040"/>
            <a:ext cx="1543320" cy="8002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8"/>
          <p:cNvSpPr/>
          <p:nvPr/>
        </p:nvSpPr>
        <p:spPr>
          <a:xfrm>
            <a:off x="2071800" y="3429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5500800" y="34290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3492360" y="6237360"/>
            <a:ext cx="838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CFDB-1157-4740-A1D5-823F31997F2C}" type="datetime">
              <a:rPr b="0" lang="ja-JP" sz="1000" spc="-1" strike="noStrike">
                <a:solidFill>
                  <a:srgbClr val="ffffff"/>
                </a:solidFill>
                <a:latin typeface="Arial"/>
                <a:ea typeface="SimHe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608040" y="623736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Copyright © MediaTek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4338720" y="623736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08BE-B73C-44D0-A44E-241337B8D3CA}" type="slidenum">
              <a:rPr b="0" lang="en-US" sz="1000" spc="-1" strike="noStrike">
                <a:solidFill>
                  <a:srgbClr val="ffffff"/>
                </a:solidFill>
                <a:latin typeface="Arial"/>
                <a:ea typeface="SimHe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標楷體"/>
              </a:rPr>
              <a:t>Driver installation/uninst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2440" y="1071360"/>
            <a:ext cx="827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標楷體"/>
              </a:rPr>
              <a:t>US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標楷體"/>
              </a:rPr>
              <a:t>Installation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標楷體"/>
              </a:rPr>
              <a:t>For unsigned driver (Details in append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A small prompt may appear on system tray, be similar to signed driver, OS will search matched driver automatically (Win 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標楷體"/>
              </a:rPr>
              <a:t>A dialog will be pop up to driver installation, user should click auto installation, if unsigned prompt shown, please confirm it (Win X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unsigned_pop.png"/>
          <p:cNvPicPr/>
          <p:nvPr/>
        </p:nvPicPr>
        <p:blipFill>
          <a:blip r:embed="rId1"/>
          <a:stretch/>
        </p:blipFill>
        <p:spPr>
          <a:xfrm>
            <a:off x="357120" y="3643200"/>
            <a:ext cx="2714760" cy="19782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1357200" y="4889520"/>
            <a:ext cx="85752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2071800" y="5429160"/>
            <a:ext cx="50004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unsigned_pop2.png"/>
          <p:cNvPicPr/>
          <p:nvPr/>
        </p:nvPicPr>
        <p:blipFill>
          <a:blip r:embed="rId2"/>
          <a:stretch/>
        </p:blipFill>
        <p:spPr>
          <a:xfrm>
            <a:off x="3357720" y="3643200"/>
            <a:ext cx="2662200" cy="2000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unsigned_pop3.png"/>
          <p:cNvPicPr/>
          <p:nvPr/>
        </p:nvPicPr>
        <p:blipFill>
          <a:blip r:embed="rId3"/>
          <a:stretch/>
        </p:blipFill>
        <p:spPr>
          <a:xfrm>
            <a:off x="6286680" y="3643200"/>
            <a:ext cx="2738160" cy="2000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2"/>
          <p:cNvSpPr/>
          <p:nvPr/>
        </p:nvSpPr>
        <p:spPr>
          <a:xfrm>
            <a:off x="4000680" y="31431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n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4071960" y="5472000"/>
            <a:ext cx="50004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8045280" y="5443560"/>
            <a:ext cx="500400" cy="142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0:39:15Z</dcterms:created>
  <dc:creator>MTK</dc:creator>
  <dc:description/>
  <cp:keywords>Internal Use</cp:keywords>
  <dc:language>en-US</dc:language>
  <cp:lastModifiedBy>mediatek</cp:lastModifiedBy>
  <dcterms:modified xsi:type="dcterms:W3CDTF">2012-10-09T01:43:53Z</dcterms:modified>
  <cp:revision>1033</cp:revision>
  <dc:subject/>
  <dc:title>投影片 0</dc:title>
</cp:coreProperties>
</file>